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arijapopmil@gmail.com" TargetMode="External"/><Relationship Id="rId2" Type="http://schemas.openxmlformats.org/officeDocument/2006/relationships/hyperlink" Target="mailto:vladimir.z.janicijevic@gmail.com" TargetMode="External"/><Relationship Id="rId3" Type="http://schemas.openxmlformats.org/officeDocument/2006/relationships/hyperlink" Target="mailto:jasna.ristic@apotekakg.r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ЧНА СТУДЕНТСКА ПРАКСА - И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1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СТРУЧНА ЛИТЕРАТУРА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рмакопеја, магистралне форм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ц. др. Марина Том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981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ја медика има следећи начин излаг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слов и поднас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ов монографија је латински наз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наслов обухвата народне наз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ационални хемијски назив(ЈУП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ис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хвата најважније 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рганска једињења – дефинисана су симболом, формулом, релативном атомском или молекулском ма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ска једињења – бруто формула, релативна атомска маса, структурна формула, хемијске формуле према (ЈУПА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907920"/>
            <a:ext cx="91440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ефинисане хемијске супстанце попут антибиотика, дрога, завојног материјала, серума и вакцина  - наводи се порекло и добијање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репарате код којих се прописује одређивање наведен је прописан садржај активне компон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кст 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 односи на израду, особине, микроскопију, идентификацију, константе, испитивање степена чистоће, одређивање садржа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е и употре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ерил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копатиб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увањ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оними, скраћенице и напом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је израда препарата прописана, наводи се количина саставних компонеата из којих се препарат израђује и начин из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е препарата – боја, облик, мирис, укус растворљи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нтификација, константе и испитивање степена чистоће односе се на лековите и помоћ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ко-технолошка испитивања односе се на завојни матер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дређивања активности наводи се поступак одређивања, као и прописане границе садржаја активне компоненте у препарату, у оквиру којих се мора налазити садржај активне компон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шта испитивања подразумевају испитивања заједничка за једну групу лековитих препарата, као што су таблете, инјкције као и за етарска и масна уља, антитоксине и вакц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е појединачне (терапијске) и највеће појединачне (максималне) изражавају се у грамима (g), или интернационалним јединицама (i,j.) и важе за одраслог човека за ентералну или парентералну при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 за примену на кожу и слузокожу наведене су као средње концентрације (% препарата у вехикулу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доза је највећа количина лековитог препарата која се одраслом човеку сме дати  за једнократну или днев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пот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341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ши медицинско снабдевање становништва, здравствених установа лековима и медицинским средствима и даје упутство за њихову правил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рађује магистралне лекове и галенске препар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ти стручна и научна достигнућа у области фарма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 пословања ап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слени са високом стручном спремом из области фармације под чијим се надзором израђују, складиште, испитују, издају и чувају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довање одговарајућих уређаја, опреме и просторија за израду, контролу, складиштење и издавањ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и са положеним стручним испитом под чијим се непосредним надзором обавља пријем,  смештај, чување и издавање лекова и медицинских сред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техничари – врше техничке послове у вези са пријемом, смештајем и израдом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стручна литература – национална фармакопеја, магистралне формуле, регистар лекова, приручник о отровима и антидотима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ап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ц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 и санитарни чв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за израу и контролу магистралних и галенских препар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Галенск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980640"/>
            <a:ext cx="863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овити препарати који се припремају у апотец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ex tem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премају се 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рог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хемијских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различити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армацеутско-технолошким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ступцима (мешањем, екстраховањем, растварањем и сл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У зависности од места апликације припремају се различити облици гален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У састав галенских препарата улаз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на или 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е лековитих супстанци као активни принци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remеdiu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лек,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упстанце које служе као помоћне ма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101600"/>
            <a:ext cx="894240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Официнални лек</a:t>
            </a:r>
            <a:r>
              <a:rPr b="1" lang="sr-CS" sz="24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 и начин израде  налази се описан у домаћим фармакопејама, магистралним формулама или страној фармацеутској литератури. У том случају лекар пише само име препарата у генитиву и ко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irupi Ephedrini compositi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ng. Emollientis 50,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  Mixturae brom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412640" y="260280"/>
            <a:ext cx="68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Times New Roman"/>
              </a:rPr>
              <a:t>ВРСТЕ РЕЦЕПАТА КОЈИ СЕ СУСРЕЋУ</a:t>
            </a:r>
            <a:r>
              <a:rPr b="1" i="1" lang="sr-CS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Магистрални лек –</a:t>
            </a:r>
            <a:r>
              <a:rPr b="1" lang="sr-CS" sz="24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рецепту су написани сви састојци и њихове количине потребне за израду одговарајућег фармацеутског облика, при чем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 састојака лекар пише арапским бројем са тачношћу на две децима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Изузетак су капи које се пишу римским бројевима. Количине су увек изражене у грамима без обзира да ли се ради о чврстој или течној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i bor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i benzo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h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thero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entae gtt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ЕДМ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вреднује 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ЕСП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дељно има 6 часаова активне наставе (3 часа семинара и 3 часа рада у малој груп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2349360"/>
          <a:ext cx="8640720" cy="4272120"/>
        </p:xfrm>
        <a:graphic>
          <a:graphicData uri="http://schemas.openxmlformats.org/drawingml/2006/table">
            <a:tbl>
              <a:tblPr/>
              <a:tblGrid>
                <a:gridCol w="1152360"/>
                <a:gridCol w="3456000"/>
                <a:gridCol w="1224000"/>
                <a:gridCol w="280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ив мод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е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вљање праксе у лабораторији. Израда магистралних и галенских препарата. Пријем, складиштење и евиденција активних и помоћних супстанц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.др. Марина Томови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вљање праксе у апотеци. Упознавање са литературом апотеке, пријем и складиштење лекова. дефектирање апотеке и провера рокова и сертификата. Вођење стручне евиденциј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.др. Марина Томови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ка студената на софтверу. Спровођење набавке лекова и медицинских средстава. Издавање лекова на рецепт и без рецепта. Комуникација са пацијентима, колегама и лекарим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.др. Марина Томовић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56152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Готов лек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–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и су најчешћи у пракси, пишу се без скраћивања, а број паковања које треба издати пише се РИМСКИМ БРОЈЕМ. Ако се готов лек налази у промету у разним облицима лекар то мора да означи назначујући његов изб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ко не назначи, издаје 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мање паковање и најслабија д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trim tabl I (u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невно по 2 таб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Практичне мере за узимање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кафена кашич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ма или 5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супена каши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ма или 15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х нож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 до 1,5 гра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све ређе у употре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В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1413000"/>
          <a:ext cx="7848360" cy="2225520"/>
        </p:xfrm>
        <a:graphic>
          <a:graphicData uri="http://schemas.openxmlformats.org/drawingml/2006/table">
            <a:tbl>
              <a:tblPr/>
              <a:tblGrid>
                <a:gridCol w="1203120"/>
                <a:gridCol w="4035600"/>
                <a:gridCol w="2609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на Том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вера Милован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ослав Соврл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 Барјактаре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ц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ова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д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ст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46" name="Rectangle 4"/>
          <p:cNvSpPr/>
          <p:nvPr/>
        </p:nvSpPr>
        <p:spPr>
          <a:xfrm>
            <a:off x="179280" y="450864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РШНИ РА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 води лабораторијски дневник. Након сваке одслушане вежбе води евиденцију шта је у току вежби савладао. Овером лабораторијског дневника за дату недељу метнор потврђује да је вежба успешно савлад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арија Поповић – Милен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ijapopmil@gmail.com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ладимир Јанићиј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ladimir.z.janicijevic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асна Ри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sna.ristic@apotekakg.rs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УЛОГА ФАРМАЦЕУТА У СПРОВОЂЕЊУ ЗДРАВСТВЕНЕ ЗАШ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вање лекова и медицинских сред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рад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магистралних/галенс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вет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ање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циј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 о употреби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ћ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дње са пацијентом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мпл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ћење терапије (прикупљање повратних информација о ефикасности л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ђење трошков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апије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ационални миним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637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Магистрални л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 израђен у апотеци на основу рецепта (формуле) за одређеног пацијента - корисника.</a:t>
            </a:r>
            <a:br>
              <a:rPr sz="3200"/>
            </a:br>
            <a:r>
              <a:rPr b="1" lang="sr-Latn-CS" sz="3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Галенски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рађен у галенској лабораторији апотеке у складу са важећим фармакопејама или важећим магистралним формулама и намењен је за издавање или продају пацијентима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исницима те апотек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33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Фармакопе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рмакопеја је службени пропис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валите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питивањ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зирању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увању лекова и лековитих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28800" y="4419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рмакопеја даје стандарде за све официналне лековите супстанце и лековит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ме “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</a:rPr>
              <a:t>Фармакопеј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потиче од речи “</a:t>
            </a:r>
            <a:r>
              <a:rPr b="1" i="1" lang="sr-Latn-CS" sz="2400" spc="-1" strike="noStrike">
                <a:solidFill>
                  <a:srgbClr val="800000"/>
                </a:solidFill>
                <a:latin typeface="Times New Roman"/>
              </a:rPr>
              <a:t>pharmаco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 што значи лек  и “</a:t>
            </a:r>
            <a:r>
              <a:rPr b="1" i="1" lang="sr-Latn-CS" sz="2400" spc="-1" strike="noStrike">
                <a:solidFill>
                  <a:srgbClr val="800000"/>
                </a:solidFill>
                <a:latin typeface="Times New Roman"/>
              </a:rPr>
              <a:t>poe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 што значи  пра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489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Фармакопе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pr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33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secund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I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tert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II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на снази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00"/>
                </a:solidFill>
                <a:latin typeface="Arial"/>
              </a:rPr>
              <a:t>Pharmacopoea Jugoslavica editio quinta (Ph.Jug.V)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-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а представља превод општег дела трећег издања Европске фармакопејe из 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Југословенска фармакопеја IV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.Jug.I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916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љена је у два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говор, увод, општи део, таблице и ин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материје мед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е биљног, животињског или минералног пор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биолош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матер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ca</cp:lastModifiedBy>
  <dcterms:modified xsi:type="dcterms:W3CDTF">2018-02-07T14:58:52Z</dcterms:modified>
  <cp:revision>49</cp:revision>
  <dc:subject/>
  <dc:title>Slide 1</dc:title>
</cp:coreProperties>
</file>